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F76-EEFE-41FE-B7A0-EA145886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C5D9-4BF7-40E9-86B3-AD03AA44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8D4-8B84-40EE-9C64-4B7E8393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D0EA-D9C8-4EF3-9C0A-011952DA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E05-8FCE-4468-AD9B-CC0C4DFD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6E8C-8E3A-434C-ABD2-617AEFFB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5E7-594D-4FF5-BDA2-B4E59EDB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E13-9691-4EAE-966F-478A31AC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A59-FED0-49DD-8EDB-A16BA16C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E7B3-B3C1-4F9F-B222-27513EEF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6BE3-2C19-469F-B4D6-083FB63A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FDAB-CFBE-40D0-80E2-A968A072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E370-DA9C-4218-9A00-0453D5B8B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c.org/focus/strategies/summ.php" TargetMode="External"/><Relationship Id="rId3" Type="http://schemas.openxmlformats.org/officeDocument/2006/relationships/hyperlink" Target="http://www.netc.org/focus/strategies/summ.php" TargetMode="External"/><Relationship Id="rId4" Type="http://schemas.openxmlformats.org/officeDocument/2006/relationships/hyperlink" Target="http://www.netc.org/focus/strategies/summ.php" TargetMode="External"/><Relationship Id="rId5" Type="http://schemas.openxmlformats.org/officeDocument/2006/relationships/hyperlink" Target="http://www.netc.org/focus/strategies/summ.php" TargetMode="External"/><Relationship Id="rId6" Type="http://schemas.openxmlformats.org/officeDocument/2006/relationships/hyperlink" Target="http://www.netc.org/focus/strategies/summ.php" TargetMode="External"/><Relationship Id="rId7" Type="http://schemas.openxmlformats.org/officeDocument/2006/relationships/hyperlink" Target="http://www.netc.org/focus/strategies/summ.php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c.org/focus/strategies/summ.php" TargetMode="External"/><Relationship Id="rId3" Type="http://schemas.openxmlformats.org/officeDocument/2006/relationships/hyperlink" Target="http://www.netc.org/focus/strategies/summ.php" TargetMode="External"/><Relationship Id="rId4" Type="http://schemas.openxmlformats.org/officeDocument/2006/relationships/hyperlink" Target="http://www.netc.org/focus/strategies/summ.php" TargetMode="External"/><Relationship Id="rId5" Type="http://schemas.openxmlformats.org/officeDocument/2006/relationships/hyperlink" Target="http://www.netc.org/focus/strategies/summ.php" TargetMode="External"/><Relationship Id="rId6" Type="http://schemas.openxmlformats.org/officeDocument/2006/relationships/hyperlink" Target="http://www.netc.org/focus/strategies/summ.php" TargetMode="External"/><Relationship Id="rId7" Type="http://schemas.openxmlformats.org/officeDocument/2006/relationships/hyperlink" Target="http://www.netc.org/focus/strategies/summ.php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Study Smarter, Not Ha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Amanda Bax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Chris Hatha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Sarah Hudzia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Sam L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Ryan Nettesheim*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Research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Knight &amp; McKelvie (1986) fou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tudents who reviewed notes did the best on assessments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here was no significant difference between students who did not review notes and students who did not take any notes at all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More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When students review and revise their own notes, the notes become more meaningful and useful (Anderson &amp; Armbruster, 1986; Denner, 1986; Einstein, Morris, &amp; Smith, 1985). from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2"/>
              </a:rPr>
              <a:t>http://www.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3"/>
              </a:rPr>
              <a:t>netc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4"/>
              </a:rPr>
              <a:t>.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5"/>
              </a:rPr>
              <a:t>org/focus/strategies/summ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6"/>
              </a:rPr>
              <a:t>.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7"/>
              </a:rPr>
              <a:t>php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halkboar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Kiewra &amp; Frank (1988) believ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value of note-taking is not in recording the no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It’s in storing the information and reviewing it lat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Even More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n their study, Kiewra &amp; Frank fou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tudents taking personal notes recorded 24% of crucial lecture p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tudents using a skeletal outline recorded 27% of crucial lecture p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mpared to full lecturer’s no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Write this dow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142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tudents recorded up to 88% of the lecture information when it was written on the board.” (Boyle, 20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Pros &amp;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0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Providing lecture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5640" y="2590560"/>
            <a:ext cx="404028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ich did you like bett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halkboard"/>
              </a:rPr>
              <a:t>Students create their ow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Berheide, Catherine White "Notetaking and Review: The Research and Its Implications."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Teaching Sociology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 18.1 (1990): 135.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Education Research Complete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. EBSCO. Web. 14 Nov. 200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Boyle, J. R. (2007). The Process of Note Taking: Implications for Students with Mild Disabilities. Clearing House, 80(5), 227-232. Retrieved November 21, 2009, from Education Research Complete (25891794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Kiewra, K. A., &amp; Frank, B. M. (1988). Encoding and External-Storage Effects of Personal Lecture Notes, Skeletal Notes, and Detailed Notes for Field-Independent and Field-Dependent Learners. Journal of Educational Research, 81(3). Retrieved November 21, 2009, from Education Research Complete (5007005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More 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Knight, L. J., &amp; McKelvie, S. J. (1986). Effects of attendance, note-taking, and review on memory for a lecture: Encoding vs. external storage functions of notes. Canadian Journal of Behavioural Science, 18(1), 52-61. Retrieved November 21, 2009, from PsychINFO (1987-08702-001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Kobayashi, K. (2006). Combined Effects of Note-Taking/-Reviewing on Learning and the Enhancement through Interventions: A Meta-Analytic Review. Educational Psychology, 26(3), 459-477. Retrieved November 21, 2009, from ERIC (EJ722157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Northwest Regional Educational Laboratory. (2005). </a:t>
            </a:r>
            <a:r>
              <a:rPr b="0" i="1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Summarizing and Note Taking</a:t>
            </a:r>
            <a:r>
              <a:rPr b="0" lang="en-US" sz="2000" spc="-1" strike="noStrike">
                <a:solidFill>
                  <a:srgbClr val="ffffff"/>
                </a:solidFill>
                <a:latin typeface="Chalkboard"/>
                <a:ea typeface="SimSun"/>
              </a:rPr>
              <a:t>. Retrieved November 28, 2009, from http://www.netc.org/focus/strategies/summ.p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Quick Po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2856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o thinks they will spend at least 50% of class time “lecturing” to your stud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A Short Exper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alf of you will get a skeleton outli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other half will have to take your own not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Process &amp; Product 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at do those terms mean to note-tak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Brainstorm, quick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Process: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“encoding” (Stahl, King, &amp; Hank, 1991)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 actually recording the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halkboard"/>
              </a:rPr>
              <a:t>Product: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“external storage” (Stahl, King, &amp; Hank, 199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reviewing the notes l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y teach note-tak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ny ide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t is a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teachable skill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Few students are taught h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t involves “listening, processing, and writing skills simultaneously” (Boyle, 2007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Teachers are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Why should a teacher provide good, accurate notes for student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eacher-prepared notes show students what is important and how ideas relate, and offer a model for how students should take notes themselves.” (Marzano, et al, 2001 from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2"/>
              </a:rPr>
              <a:t>www.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3"/>
              </a:rPr>
              <a:t>netc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4"/>
              </a:rPr>
              <a:t>.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5"/>
              </a:rPr>
              <a:t>org/focus/strategies/summ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6"/>
              </a:rPr>
              <a:t>.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Chalkboard"/>
                <a:hlinkClick r:id="rId7"/>
              </a:rPr>
              <a:t>php</a:t>
            </a: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halkboard"/>
              </a:rPr>
              <a:t>Teacher’s example “directs the notetakers’ attention to what they should write down in their notes.” (Kobayashi, 2006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A Note on Neatness</a:t>
            </a:r>
            <a:br>
              <a:rPr sz="4400"/>
            </a:br>
            <a:r>
              <a:rPr b="0" lang="en-US" sz="2200" spc="-1" strike="noStrike">
                <a:solidFill>
                  <a:srgbClr val="ffffff"/>
                </a:solidFill>
                <a:latin typeface="Chalkboard"/>
              </a:rPr>
              <a:t>(no pun intend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es that teachers provide need to be </a:t>
            </a:r>
            <a:r>
              <a:rPr b="0" i="1" lang="en-US" sz="3200" spc="-1" strike="noStrike">
                <a:solidFill>
                  <a:srgbClr val="ffffff"/>
                </a:solidFill>
                <a:latin typeface="Chalkboard"/>
              </a:rPr>
              <a:t>neat and organize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f students can’t read them, they won’t be able to use them later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Chat with People around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at will </a:t>
            </a:r>
            <a:r>
              <a:rPr b="1" lang="en-US" sz="3200" spc="-1" strike="noStrike">
                <a:solidFill>
                  <a:srgbClr val="ffffff"/>
                </a:solidFill>
                <a:latin typeface="Chalkboard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, as a teacher, do to provide the best notes and note-taking opportunities for your student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How will they succeed using your note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Jot down a few ide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halkboard"/>
              </a:rPr>
              <a:t>The Produ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Why encourage students to review not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Any idea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The research shows (time and again) that </a:t>
            </a:r>
            <a:r>
              <a:rPr b="0" i="1" lang="en-US" sz="3000" spc="-1" strike="noStrike">
                <a:solidFill>
                  <a:srgbClr val="ffffff"/>
                </a:solidFill>
                <a:latin typeface="Chalkboard"/>
              </a:rPr>
              <a:t>reviewing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 notes is more beneficial than taking notes </a:t>
            </a:r>
            <a:r>
              <a:rPr b="0" i="1" lang="en-US" sz="3000" spc="-1" strike="noStrike">
                <a:solidFill>
                  <a:srgbClr val="ffffff"/>
                </a:solidFill>
                <a:latin typeface="Chalkboard"/>
              </a:rPr>
              <a:t>without using them again </a:t>
            </a: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lat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halkboard"/>
              </a:rPr>
              <a:t>So, if you won’t review the notes later…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halkboard"/>
              </a:rPr>
              <a:t>don’t bother taking them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8:01:49Z</dcterms:created>
  <dc:creator>UW Oshkosh</dc:creator>
  <dc:description/>
  <dc:language>en-US</dc:language>
  <cp:lastModifiedBy>Sarah Hudziak</cp:lastModifiedBy>
  <dcterms:modified xsi:type="dcterms:W3CDTF">2009-11-28T18:04:34Z</dcterms:modified>
  <cp:revision>13</cp:revision>
  <dc:subject/>
  <dc:title>Slide 1</dc:title>
</cp:coreProperties>
</file>